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68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4088-39C3-47D1-AEE0-FED8EFBD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firs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F58-29FD-4F4A-A9EB-6C1A668D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814-2118-493F-A05E-9774013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378-5A17-4CB7-8A86-2998F8AC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4F8-9C1D-4D20-8165-756AEDB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760-4BC1-43A1-8C66-31AD29B4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AC9E-F9F3-40A3-9E4E-C029F9AD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3C5-7189-4D6B-B885-FA0EA4AC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55FD-A9BB-4F36-A1D0-54A7101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6692-0383-4E67-8F03-0A790814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ED9F-28A3-472D-AF4B-8995586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E14-C5AB-402C-9130-DC81639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52C-A165-4D4A-911B-87145D75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E44-D036-491F-A408-58D95C2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4F7B-ABFB-41DE-A7BF-D542567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FF2-14F0-4D9A-BD5F-B15C1DE3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B6CB-E592-4AD8-88C3-607390D1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D20-8857-49A2-9713-6E4C34F7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D12-3961-42F4-9711-F66C133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3C1-9519-4F37-ABFE-D61627C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721-0DAE-4722-9638-14DF6EF8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305-0A01-49ED-ADDC-97F67CD6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740-D29B-4488-BEA4-A3FA413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993-1D12-4659-8B26-74B56E9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E9D-2E4D-4B75-9EF0-FA946C6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2A94-369B-40A6-BD25-E896328DB3D3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673440"/>
            <a:ext cx="61722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68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9436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F12-2D6D-46F9-ACF3-6ADCB7DE4A38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065960"/>
            <a:ext cx="312408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7146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An important point to remember…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lthough culture is ‘handed down’ from one generation to the next, it is not the same as genetics. 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r example, physical traits like broad shoulders or personal qualities like a love of music are not cultural.  They are not considered cultural.  However, the clothes you wear, or the songs you enjoy ARE cultural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Meeting our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e all have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ysical need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– food, water, shelter, clothing, and safet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motional need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– friendship, belonging, love, self-esteem, knowledge, excitement, self-express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meeting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 the 1780s, some of the Loyalist settlers in Atlantic Canada were saved from starvation by members of the First Nations who brought them meat to ea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I has powerful winds, and researchers at Atlantic Wind Test Site have experimented with ways to use wind to produce electricity.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re is a large community of Celtic background in Cape Breton, Nova Scotia. By celebrating their music, sports and crafts, members of the community seek to preserve their Celtic heritag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meeting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Culture gets “INSTITUTIONALIZED”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Not all of your culture comes from individuals.  Much of our life is spent in institution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INSTITUTIONS are organizations with social, educational and religious purpose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Culture gets “INSTITUTIONALIZED”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t your table group, come up with as many examples of cultural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itutions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s possibl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Let’s Get Personal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hat’s your heritage?  Where are your family “roots”?  In what ways are these cultural roots expressed in your lif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what other ways (social, institutional, religious, etc) do you express your personal cultur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What do YOU do in your spare time?  Explain how what you do is a reflection of your culture.  You could approach this as a brief ‘Day in the Life of….’Be sure to include some of your ‘institutions of socialization’. 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What About You???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Answer these questions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hat is cultur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culture important? Why/why not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Defining</a:t>
            </a: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ulture is a reflection of who and what we a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 is everything connected with the way humans live in group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 is arts and entertainment, as well as belief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ations and behaviour patterns are all part of cultu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includes our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ysical environmen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olitical 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ial 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Some examples of culture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ocial rule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g. “Don’t talk with your mouth full”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ating with chopsticks vs. knife and for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othes and hairstyle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ypes of foo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port and leisur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ligious belief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Anthropologists </a:t>
            </a:r>
            <a:r>
              <a:rPr b="0" lang="en-US" sz="2000" spc="-1" strike="noStrike">
                <a:solidFill>
                  <a:srgbClr val="993300"/>
                </a:solidFill>
                <a:latin typeface="Arial Black"/>
              </a:rPr>
              <a:t>(a very long word!)</a:t>
            </a:r>
            <a:endParaRPr b="0" lang="en-US" sz="2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thropologists are people who study human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ultural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characteristics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y look at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ultural diversit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- the differences and similarities among cultures all over the worl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George P. Murdoch</a:t>
            </a:r>
            <a:endParaRPr b="0" lang="en-US" sz="32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 important anthropologist, he made a list of characteristics he found in every culture in the worl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What about you?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Using Murdoch’s list, choose the 5 most important cultural characteristics to you.  Are there any items that you feel you could absolutely live without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Transmitting Culture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ulture is transmitted from one generation to the next.  We develop our culture from our parents, friends, and surroundings.  This is called ‘socialization’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5:51:30Z</dcterms:created>
  <dc:creator>rebecca.kemshall</dc:creator>
  <dc:description/>
  <dc:language>en-US</dc:language>
  <cp:lastModifiedBy>Administrator</cp:lastModifiedBy>
  <dcterms:modified xsi:type="dcterms:W3CDTF">2007-01-22T19:02:00Z</dcterms:modified>
  <cp:revision>11</cp:revision>
  <dc:subject/>
  <dc:title>Culture</dc:title>
</cp:coreProperties>
</file>